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-360" y="-8429760"/>
            <a:ext cx="360" cy="182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6300-3CC6-4257-815C-1A3CDB356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E9DF-3C63-4270-9054-0E179D76A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9921-9B11-4E19-8D16-56C1DB561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400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400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6B0A-312A-4DAE-ACB9-DD53CF8F9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0800" y="-146160"/>
            <a:ext cx="769284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DFD9-83D6-4A9B-B69D-B9C63DA00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400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192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400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66DC-0461-4939-BC08-A15BF52A1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C533-D847-40BD-AFCE-86D103482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3955-C1D6-4DF4-9001-C34C87674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80800" y="-146160"/>
            <a:ext cx="769284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91CD-63AD-46F1-B8E4-656AC2956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B88B-21B9-4503-AFFC-98A589FF1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C9A4-BC40-4C37-A582-93826D00F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F74F-7720-40AE-BA2C-B2CCA042B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93680" y="68400"/>
            <a:ext cx="8381880" cy="1141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8640" indent="-27864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3148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97560"/>
            <a:ext cx="1901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57075-64A5-446D-8DA1-2B5F861382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8600" y="6394320"/>
            <a:ext cx="8153280" cy="180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03840" y="6400800"/>
            <a:ext cx="340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3680" y="422280"/>
            <a:ext cx="8381880" cy="1141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083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8600" y="6172200"/>
            <a:ext cx="8153280" cy="144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53960" y="380880"/>
            <a:ext cx="606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NA-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2200"/>
            </a:b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ition of Slicer2.x Modules to Slicer3: Fiduci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65760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1371600"/>
            <a:ext cx="18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1600200"/>
            <a:ext cx="381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c6314"/>
                </a:solidFill>
                <a:latin typeface="Arial Narrow"/>
              </a:rPr>
              <a:t>Nicole Aucoin, BWH (cont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c6314"/>
                </a:solidFill>
                <a:latin typeface="Arial Narrow"/>
              </a:rPr>
              <a:t>Steve Pieper, Isomi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1447920"/>
            <a:ext cx="4724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76520" y="2057400"/>
            <a:ext cx="310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Software: Implement placing Fiducials in 3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Discuss how to integrate display sty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362320"/>
            <a:ext cx="2467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1960" y="117000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lan/Expected Challenges/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20" y="117648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7200" y="3747960"/>
            <a:ext cx="41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ccomplished by end of Programming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18240" y="3733920"/>
            <a:ext cx="47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16160" y="4921200"/>
            <a:ext cx="658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Various picking strategies were explored for placing fiducials in 3D, but a final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is reliant on some architecture reorganisation to integrate event handling.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is projected to occur by mid-Febru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4921200"/>
            <a:ext cx="2924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1480" y="3032280"/>
            <a:ext cx="3798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2682720"/>
            <a:ext cx="5029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8040" y="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2007 Project Half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